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1717"/>
        <c:axId val="66385051"/>
      </c:barChart>
      <c:catAx>
        <c:axId val="1561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85051"/>
        <c:crosses val="autoZero"/>
        <c:auto val="1"/>
        <c:lblAlgn val="ctr"/>
        <c:lblOffset val="100"/>
        <c:noMultiLvlLbl val="0"/>
      </c:catAx>
      <c:valAx>
        <c:axId val="66385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1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7AA-16BB-4E55-B20B-322B4E33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3FC-C192-4526-B10B-7CF6D11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2E6-B747-4B8D-B4CC-16C4564C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C74-CF57-4B16-B40E-D4D14457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E24-A25D-468F-864A-2AEE77EC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DC0-113D-4460-A6FF-B376C608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D28-3371-48E3-85D1-5A3B5F7E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651-B6B3-47EC-A07E-B278ADD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36C-057D-4034-AE45-58B53C4D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A0B-5E49-4CE0-AC7B-EAAA465B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707-3BB3-40DB-BE73-E0482D61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139-FB09-4AD2-A923-DB1C384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39925-6F15-4826-B6FC-6BBA2954F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