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71957"/>
        <c:axId val="3844023"/>
      </c:barChart>
      <c:catAx>
        <c:axId val="65571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023"/>
        <c:crosses val="autoZero"/>
        <c:auto val="1"/>
        <c:lblAlgn val="ctr"/>
        <c:lblOffset val="100"/>
        <c:noMultiLvlLbl val="0"/>
      </c:catAx>
      <c:valAx>
        <c:axId val="3844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71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B10-4146-4F61-8837-F8623062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33A-A84E-4DF0-9B40-28CB7A26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E77-96DF-47FA-9C8F-F82CF1CD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95E-9C10-4517-974B-78B8B612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A65-B129-4835-A375-28899DC2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8D8-2B00-4F4B-BFF7-214C9D14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639-D832-4E7B-BC99-FC845654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2E0-3273-4AB6-8F58-589A13D1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9CF-AE76-4777-A68B-C1EC4475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136-D81B-4CFE-AE4B-A7AD127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14F-33F8-4E2F-AE6E-5A06488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D8A-90B3-4DD2-99B2-7ACC93C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DE8EA-B2E2-4BFE-B970-7FCA828BA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