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29174"/>
        <c:axId val="36050005"/>
      </c:barChart>
      <c:catAx>
        <c:axId val="38729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50005"/>
        <c:crosses val="autoZero"/>
        <c:auto val="1"/>
        <c:lblAlgn val="ctr"/>
        <c:lblOffset val="100"/>
        <c:noMultiLvlLbl val="0"/>
      </c:catAx>
      <c:valAx>
        <c:axId val="36050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9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8A0-6D1A-43F6-ACF6-5DBC91D8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98D-D48D-4355-951D-ACEBD7A6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A66-1937-4ACC-BB23-4C3E1C34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E6E-931B-4CEC-B37B-6E14324E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697-E39D-4188-90EF-D21588EC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9C8-DD25-434E-99D7-D4245E0C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CD96-B454-4AB6-84A3-232E7287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59F-F20B-4536-AC82-01C273EF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E0A-9B78-477F-B53E-CCC4DF0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BF6-C54A-4986-948D-FD5B639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896-8FB2-471D-87D7-0261749C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E42B-4F94-4692-BB1D-D97E21A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73F72-77DE-4443-86F8-7745580642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