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65716"/>
        <c:axId val="27566940"/>
      </c:barChart>
      <c:catAx>
        <c:axId val="97165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6940"/>
        <c:crosses val="autoZero"/>
        <c:auto val="1"/>
        <c:lblAlgn val="ctr"/>
        <c:lblOffset val="100"/>
        <c:noMultiLvlLbl val="0"/>
      </c:catAx>
      <c:valAx>
        <c:axId val="27566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5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82C-2CF3-4216-B3EB-8A1B042D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EAF-748C-4873-A56C-EE6DD36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693-3CF2-4B38-B02B-EAC4DD64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164-2CCD-4533-841B-5CBE4077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7DA-2089-4C34-B3C1-DD79745F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E5F-5F7D-4311-BECB-8521BCA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FDF-E89E-402E-8118-A322438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420-760A-450F-B723-979093D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A3F-972B-4DA9-B8CB-3CF0E456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18B-19F0-405C-82A6-7F53174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DCB-B675-4C49-84DB-69D53AE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2E5-B2EB-489B-B647-74E3C87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959C4-D2E0-4B91-95FB-9B407B93A5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