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79957"/>
        <c:axId val="81565876"/>
      </c:barChart>
      <c:catAx>
        <c:axId val="70179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65876"/>
        <c:crosses val="autoZero"/>
        <c:auto val="1"/>
        <c:lblAlgn val="ctr"/>
        <c:lblOffset val="100"/>
        <c:noMultiLvlLbl val="0"/>
      </c:catAx>
      <c:valAx>
        <c:axId val="81565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79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D94-6332-4F6E-AD1A-08452586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453-6C30-48B7-A536-3CAF8AEA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277-D3D3-4306-84D7-1FA65112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E4D-319F-43AF-B276-B7FD0689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51A-7142-441C-BC5C-4CD6A4A8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58CC-B4E4-4C38-B828-50B7207E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225-5EE0-4914-9349-153D20F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30F-F03C-4FB9-A28F-94945B2F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AC3-BA46-4B41-AE7D-8F18D076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C51-05A0-46D8-89FD-6F7D6D1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B2F4-ACC6-4BE0-B60E-F9B21465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7AF-7D99-4EB2-B0E4-09182827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8F4A8-99F3-43AE-A559-5330EF2CDB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