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61853"/>
        <c:axId val="8895649"/>
      </c:barChart>
      <c:catAx>
        <c:axId val="40361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5649"/>
        <c:crosses val="autoZero"/>
        <c:auto val="1"/>
        <c:lblAlgn val="ctr"/>
        <c:lblOffset val="100"/>
        <c:noMultiLvlLbl val="0"/>
      </c:catAx>
      <c:valAx>
        <c:axId val="8895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61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77A-DB44-49B4-8320-C23BCAEB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03B-BA1F-41E7-B654-CCA568D3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BDB-96FF-415E-A795-108E90B8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EB4-AEF5-436D-BF4B-B63D4CC1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A02-20A8-40DA-98DA-F1BA3BDE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EF6-A46A-4A1B-919A-A6A1CD6D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EA5-EB13-4D04-AA2D-DFBF8F78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555-CDCC-4C7B-BDD0-56EBF687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7E1-B584-4AE1-8FED-7BDE47B3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78D-4906-4C6B-96AA-950F338F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6CD-D2D4-416B-B280-5E930629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92E-7EFE-4B64-9615-B73896F4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52B7D-8F45-430D-9ED3-DA22957F3B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