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699924"/>
        <c:axId val="50154479"/>
      </c:barChart>
      <c:catAx>
        <c:axId val="166999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154479"/>
        <c:crosses val="autoZero"/>
        <c:auto val="1"/>
        <c:lblAlgn val="ctr"/>
        <c:lblOffset val="100"/>
        <c:noMultiLvlLbl val="0"/>
      </c:catAx>
      <c:valAx>
        <c:axId val="501544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6999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8DF6-D4E2-4ED2-B60A-C2368285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506C-1295-43AF-9CDB-C93E66EB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B8B3-7921-466A-8C4A-85D1C319D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4C13-8E51-43E8-968E-320FF9572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D814-4DF4-4B21-B7A3-9701FC48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1E5C-2D19-4C79-9E98-A9BDF15C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0D9E-6047-42F9-A8C3-B302CB63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4ACA-DE92-4860-B341-4FED3574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52A8-8D0E-4CB0-99D4-807B4680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3198-9CF8-45F0-B510-CA617DE8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5D2D-2762-4C8F-874C-3154D3BC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14E4-A070-48F4-92C8-1A2036F9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9C35A3-3751-46F8-87F0-2C820EBEC5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