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42870"/>
        <c:axId val="95542027"/>
      </c:barChart>
      <c:catAx>
        <c:axId val="73342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42027"/>
        <c:crosses val="autoZero"/>
        <c:auto val="1"/>
        <c:lblAlgn val="ctr"/>
        <c:lblOffset val="100"/>
        <c:noMultiLvlLbl val="0"/>
      </c:catAx>
      <c:valAx>
        <c:axId val="95542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42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B6E-72EE-4C7D-968D-A9EDDF9D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AA1-7FEE-4AD1-80E6-FD2327ED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C66-DF6B-45C2-8431-94DCED96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070-5602-428C-8ED3-F3CC3F33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983-D6CA-486B-990B-879B05B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542-4EE8-4235-A2C6-1623AC89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E9A-04F3-49F5-9E44-85BB434B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1E5-645E-421B-A163-EC6BEB8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AA9-B856-4A77-8F4A-AE9B1CA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370-865C-4A50-96B4-8D80AAD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876-FA7F-4A45-AA20-77EE93EB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91B-38FA-4F51-8CAE-15F1BD8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78CFE-32A6-48F9-99AF-F941FC508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