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05538"/>
        <c:axId val="94511479"/>
      </c:barChart>
      <c:catAx>
        <c:axId val="82105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11479"/>
        <c:crosses val="autoZero"/>
        <c:auto val="1"/>
        <c:lblAlgn val="ctr"/>
        <c:lblOffset val="100"/>
        <c:noMultiLvlLbl val="0"/>
      </c:catAx>
      <c:valAx>
        <c:axId val="94511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05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C2A-D617-46CD-8C5C-25CD3F28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862-4D2A-4719-BE7B-7A4F9F8B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5BB-112D-4A68-8ED0-FE3A4996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184-A622-46F9-9784-1DDB07E0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82F-8064-40BE-B41A-9153F890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D51-2603-4850-A8A6-B3C4B0E2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058-F030-4B9D-BB98-EE2496E7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66C7-BDAA-4150-8893-A5390AEF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BC9-5277-45D8-A6E9-DE13E371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C8C-11D9-467C-9C33-E9B434F4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834-30E3-4AF7-85F2-EB3832C1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C27-7A4B-421C-A200-559B5BB0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D5D1A-27D0-4724-8796-0ACF74B5B8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