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898945"/>
        <c:axId val="33078371"/>
      </c:barChart>
      <c:catAx>
        <c:axId val="758989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078371"/>
        <c:crosses val="autoZero"/>
        <c:auto val="1"/>
        <c:lblAlgn val="ctr"/>
        <c:lblOffset val="100"/>
        <c:noMultiLvlLbl val="0"/>
      </c:catAx>
      <c:valAx>
        <c:axId val="330783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8989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5E39-001A-4A94-8F78-1F2273527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5FA0-4753-4C20-B408-5ADB93977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18FF-EE30-462F-BCE1-57F5BEC3F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3198-23D1-4FF4-87B4-2B1788BFE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CBD2-C57B-4FD5-9FF2-676D51BD9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E245-B160-4963-8CBE-56B086E7E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5144-F4C3-4A54-BC3E-52D1C20AD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1C4A-B5B5-4897-B80A-626B35F8A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AA65-CFB3-4A5F-8D07-A01726061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0F36-608E-4717-A907-B48D9690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1929-2DA9-47CE-BD67-62126FA1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5411-F2DC-4AEB-87CF-E598F004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4F7EE9-F6A0-4342-81FD-8179E68CA8E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