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55868"/>
        <c:axId val="74956492"/>
      </c:barChart>
      <c:catAx>
        <c:axId val="28455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56492"/>
        <c:crosses val="autoZero"/>
        <c:auto val="1"/>
        <c:lblAlgn val="ctr"/>
        <c:lblOffset val="100"/>
        <c:noMultiLvlLbl val="0"/>
      </c:catAx>
      <c:valAx>
        <c:axId val="74956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55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F59-BDED-4270-8CD0-2B4A07B3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B15-03DD-4B6F-9B72-B5B2FA1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ABB-D02F-4DEF-AE5F-67661D0D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CC3-1217-4D0F-8A15-C013DB42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B7F-1183-42E6-BE28-FD02CF45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491-C67D-471E-A94F-0887D891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FCA-503C-46B3-ADE4-DC372FF5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3C0-51D2-47C6-8D07-79DAC0C3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5C7-60CC-4C44-ADAF-43DD78D9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058-F143-4115-8DBE-C6A3D547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9B3-6400-4967-8F11-DC66EFA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9AC-1259-449D-85E0-AF89D868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BFE28-DE39-49D6-8654-9B4D0CC0E4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