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8967824"/>
        <c:axId val="63661425"/>
      </c:barChart>
      <c:catAx>
        <c:axId val="5896782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661425"/>
        <c:crosses val="autoZero"/>
        <c:auto val="1"/>
        <c:lblAlgn val="ctr"/>
        <c:lblOffset val="100"/>
        <c:noMultiLvlLbl val="0"/>
      </c:catAx>
      <c:valAx>
        <c:axId val="6366142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96782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C4AF-73D2-4466-A8C3-AB6D185D7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F9EF-D0A4-481C-94D1-8F3500FDC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4547-8671-43F6-B2FF-F3D3A3ABE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AAA4-EF58-43FB-804A-0E5EF1EB9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C2A7-B9B4-4F4C-B7C3-BEED37A07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399F-30AD-4E1F-80DD-DC6AF3B2D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7379-4408-4922-B6A5-5E38723B6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0984-D945-4E9D-9C88-5BF0FB4C7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B12F-C4C4-4A9C-B6D5-EEA832141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F3DC-8BD7-4562-BE58-80F3C4865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E0BC-26B7-4039-9537-9F68C957B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35DB-A213-41AE-AD60-08F49FA0F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96E880-E5B0-4DB6-989F-1F66FFA84F4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