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72044"/>
        <c:axId val="34551357"/>
      </c:barChart>
      <c:catAx>
        <c:axId val="91672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51357"/>
        <c:crosses val="autoZero"/>
        <c:auto val="1"/>
        <c:lblAlgn val="ctr"/>
        <c:lblOffset val="100"/>
        <c:noMultiLvlLbl val="0"/>
      </c:catAx>
      <c:valAx>
        <c:axId val="34551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72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81E-5529-4480-B594-EF63DAD5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AD0-D0B2-480B-A63C-F33C278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11E-329F-4EF6-A5B0-56F31A59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149-70BE-4FE1-910D-C80F2F22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64A-071A-4E6B-A4EE-4863F29D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C94-B269-4ED7-B35B-5E115BB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9E1-AFF7-405F-A668-3B57F8F0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20E-F948-46A7-AF0F-59864E3C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1E7-BD46-49C7-BACC-6661A62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6EE-FE32-41D9-B025-B01415D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59D-9120-476A-B8C0-B63BA21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731-1A66-41F3-8C1B-5EFA7D7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A480F-A68E-4082-A395-FF2F77A8E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