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682561"/>
        <c:axId val="27823411"/>
      </c:barChart>
      <c:catAx>
        <c:axId val="70682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823411"/>
        <c:crosses val="autoZero"/>
        <c:auto val="1"/>
        <c:lblAlgn val="ctr"/>
        <c:lblOffset val="100"/>
        <c:noMultiLvlLbl val="0"/>
      </c:catAx>
      <c:valAx>
        <c:axId val="27823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682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0B57-21E6-4D0D-9C54-110EB3DE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CE4-8A9F-41F8-A13D-274E8B32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A64B-474F-40EB-8533-B0E171018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3F8D-D0DB-46DA-9A63-BAE0F5243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4C0-5B6B-4B1D-B09A-C32CB3D69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423E-EA48-44B3-8A30-871D16B03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93D-47B6-412D-B591-07D0DCECD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43EC-43AC-4DB5-A74C-6AE9E24A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91B5-4EC6-481C-BCF2-A3CFDED8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82E7-8DF6-4AB0-B0BC-6580D983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F52-B415-41C5-B81E-18BF4FFD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A607-6BCA-4C69-B22E-3C20753F7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476852-020F-488B-AEBE-8E2DA95546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