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62386"/>
        <c:axId val="95080103"/>
      </c:barChart>
      <c:catAx>
        <c:axId val="71562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0103"/>
        <c:crosses val="autoZero"/>
        <c:auto val="1"/>
        <c:lblAlgn val="ctr"/>
        <c:lblOffset val="100"/>
        <c:noMultiLvlLbl val="0"/>
      </c:catAx>
      <c:valAx>
        <c:axId val="95080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62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C38-964D-48B5-904B-7ACB7F83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B33-CC92-46A6-9EDC-9517F7EA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9C9-B13F-445F-ABEA-CE8A5DF2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173-BB8C-447C-89CA-8B7D0BFB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397-EE3F-4DE8-B3C8-911DF3A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85D-E925-4E2C-AF21-E147523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619-F32F-4F0E-B8F9-1E104094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249-AE1B-4C84-AAC2-E225D39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CFB-2CE0-4055-BDD8-70419B91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666-57D2-4528-9766-B9ECE33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560-D1DB-449D-A894-66260FB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C73-0616-4637-B812-CB3B9BA7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F4F15-0BAA-4B8A-B7A8-5053C8FBF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