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35976"/>
        <c:axId val="86446184"/>
      </c:barChart>
      <c:catAx>
        <c:axId val="357359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46184"/>
        <c:crosses val="autoZero"/>
        <c:auto val="1"/>
        <c:lblAlgn val="ctr"/>
        <c:lblOffset val="100"/>
        <c:noMultiLvlLbl val="0"/>
      </c:catAx>
      <c:valAx>
        <c:axId val="864461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359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7B5-14DF-4E9A-9345-0D8D7CF8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31EE-11D2-438B-B611-48906C72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110-E73E-49A4-BA8B-EF2F413F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F7B-5F41-44D8-BE38-B59B6F04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7D91-1DDD-4046-B923-69228C42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F2C-F619-4AA2-BFCA-904ED836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CE5-FB8B-4C21-96C0-1BA18400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6EA-3599-493A-BBDE-B97D908C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238D-BD72-494D-8A28-41AAF0A7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430-BD32-4B01-9461-7CEE1D16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746-48FE-4B8C-AE37-3A1A3068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D29-0A8B-4618-8999-AFFFA482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C3019-433A-46A1-ACA7-A336C71A5A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