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36042"/>
        <c:axId val="69941603"/>
      </c:barChart>
      <c:catAx>
        <c:axId val="54436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41603"/>
        <c:crosses val="autoZero"/>
        <c:auto val="1"/>
        <c:lblAlgn val="ctr"/>
        <c:lblOffset val="100"/>
        <c:noMultiLvlLbl val="0"/>
      </c:catAx>
      <c:valAx>
        <c:axId val="69941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36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8AD-28CB-4D0B-84CA-141F85DF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0C9-AE3E-4C95-9F40-A073DB0E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2DC-23DB-4C61-BEE7-3C18C165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4FD-ABBE-4DBC-B37F-D56ADEAF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B1D-1F1F-44F5-87D2-3BA2D130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3B7-C630-4B12-976F-4C69A37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7CB-DB3C-4CE9-AB3A-48D362C2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0A8-1F4C-460A-B8FD-EEEBC566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27B-DA7B-4580-9325-E55842A9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B82-462D-4375-B068-BAA2D513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0AB-1A8A-47EE-A709-AD4A30F0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02E-0D9B-4759-A071-ED384FE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C4064-176A-41D8-8311-DDEED5739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