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02824"/>
        <c:axId val="91227538"/>
      </c:barChart>
      <c:catAx>
        <c:axId val="30202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27538"/>
        <c:crosses val="autoZero"/>
        <c:auto val="1"/>
        <c:lblAlgn val="ctr"/>
        <c:lblOffset val="100"/>
        <c:noMultiLvlLbl val="0"/>
      </c:catAx>
      <c:valAx>
        <c:axId val="91227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02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780-F45F-4B74-8847-C9BD71E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287-3613-4DF9-A603-5C6E5A04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EB9-EB1D-490E-9D1A-856B1A22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9CA-E91E-4950-A7BA-CB6B6FB4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AD7-B2B0-4143-B197-C800D5E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28F-CEA7-4AAB-9570-77887F5E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562-ACAC-405F-AF2C-939F6C62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D4C-A88D-4741-B997-A7C44FC3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CD9-851F-4F13-B55E-59880AB9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92D-B952-443E-8CEA-0435121C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092-C8B0-4C54-B286-A6794E7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8C2-C875-48C5-A934-D597A993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20582-53C0-44D6-B789-15B0AF9DF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