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24771"/>
        <c:axId val="91937017"/>
      </c:barChart>
      <c:catAx>
        <c:axId val="48224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37017"/>
        <c:crosses val="autoZero"/>
        <c:auto val="1"/>
        <c:lblAlgn val="ctr"/>
        <c:lblOffset val="100"/>
        <c:noMultiLvlLbl val="0"/>
      </c:catAx>
      <c:valAx>
        <c:axId val="91937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24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2CF-E183-49E1-BAA2-FD7FAD6E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BBE-4D39-4843-B774-77FD3D4C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234-2324-407F-A3F7-2565130C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F4D-D74F-4BDA-B895-47B12A99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046-DB0F-4132-98A6-2A1446AC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141-C26A-41B9-BAA4-7C7AD855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10E-0942-4F0B-96C2-832054D7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DB3-A2EA-40E8-80ED-25F4EAFC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1AE-6030-4D64-A33F-4391F287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E19-EF2B-4794-97B0-46A9455E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3966-B03B-487A-AEB3-03CCC7D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B08-5E69-44DD-89B7-4F1BD69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8DDD5-6216-4AE6-A061-9112D417C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