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2514"/>
        <c:axId val="84631997"/>
      </c:barChart>
      <c:catAx>
        <c:axId val="2402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1997"/>
        <c:crosses val="autoZero"/>
        <c:auto val="1"/>
        <c:lblAlgn val="ctr"/>
        <c:lblOffset val="100"/>
        <c:noMultiLvlLbl val="0"/>
      </c:catAx>
      <c:valAx>
        <c:axId val="84631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2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0B6-FE36-4C62-A6A4-BA5A27F7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8F8-D198-49EE-B3D1-F487DAF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CD1-0B90-4F10-B4B8-1687BA0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9F9-C9EF-4054-9111-A5023B54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652-9B0B-4991-B849-1477B1D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5A5-BD1C-4BC6-8F45-B81C774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34B-5429-4D01-9502-C08C6DF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54F-4FFC-443B-8B74-F3DE38A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BB8-2B9B-47B6-85D3-B2564527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957-1CAF-41F6-A51A-E42A224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724-FE9A-43D1-9782-BFA6FEA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243-C4AB-4205-8DB5-066BC04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B7414-1182-4DB6-94CE-CB1DDFA64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