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57150"/>
        <c:axId val="85064910"/>
      </c:barChart>
      <c:catAx>
        <c:axId val="35857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4910"/>
        <c:crosses val="autoZero"/>
        <c:auto val="1"/>
        <c:lblAlgn val="ctr"/>
        <c:lblOffset val="100"/>
        <c:noMultiLvlLbl val="0"/>
      </c:catAx>
      <c:valAx>
        <c:axId val="85064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57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839-F02D-4042-92EF-FFD0872F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EAB-8381-4D9F-811C-0BDCB50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987-EA99-4B88-80F8-92921666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011-41BC-4DAE-A39A-1B5E60BB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A0B-50B7-4C63-84A4-EFC4153F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AD2-738E-4B78-B7E7-0C39327F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355-F863-4CAE-B7F1-4C610628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885-F03F-486D-9F4E-9D0874A8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2D6-F8DD-432F-BBF9-0C5861DB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4F7-0D5A-47FB-8280-335CB24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8E0-0D10-44B6-94E7-1F0F352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63E-E02A-494B-8E9A-C251DABD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97EDA-A185-4B7B-8EB2-B3D3C013D8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