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34212"/>
        <c:axId val="93778528"/>
      </c:barChart>
      <c:catAx>
        <c:axId val="18334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78528"/>
        <c:crosses val="autoZero"/>
        <c:auto val="1"/>
        <c:lblAlgn val="ctr"/>
        <c:lblOffset val="100"/>
        <c:noMultiLvlLbl val="0"/>
      </c:catAx>
      <c:valAx>
        <c:axId val="93778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34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AA2F-B98D-40D5-A6F5-635094AD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5D3-8412-488D-B0DA-04103706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456-C596-4335-80D5-5B0B3E05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88E-D647-4D1F-A66F-27A67E2E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9C48-6176-46B8-8828-73C1018D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127-7856-4834-A529-48837378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8A5-5D84-4298-8DF1-6B331014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668-2949-4CD5-B8FE-7DADA7DA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3B3-467D-45DC-B00C-4DA06F8B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1AA-195F-4A9C-A7D1-87213760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F2E-7A1C-4EA5-A0C1-E6A08893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C60-4C31-4BAB-B6DE-B0348489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19275-C431-4ECC-8E82-AF2EF14FF7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