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954"/>
        <c:axId val="2866541"/>
      </c:barChart>
      <c:catAx>
        <c:axId val="828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6541"/>
        <c:crosses val="autoZero"/>
        <c:auto val="1"/>
        <c:lblAlgn val="ctr"/>
        <c:lblOffset val="100"/>
        <c:noMultiLvlLbl val="0"/>
      </c:catAx>
      <c:valAx>
        <c:axId val="2866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132-77E4-4AD8-9209-F8DA2692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ECF-2B0B-4E22-AE68-FA83AC59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37D-6470-47FD-95A1-81BA9471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5AB-ED4D-4C5A-BBA9-F5ACB530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DC5F-59BD-420D-9903-9D8D6802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B25-FF32-430C-A575-C4455B0F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977-7C72-425F-96F2-8970B390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20B-A9C4-4B43-885A-0D376D9E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3832-1BE2-4AEE-A7AC-D6ED59AA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27D-0B0A-4D1C-BA35-BAFA0C15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291F-C53C-4BB6-8686-D3FDCE11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D96-96E8-46AB-8C99-3395B3F4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E7B38-3843-456B-BBE3-3234DA6D09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