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474284"/>
        <c:axId val="42310985"/>
      </c:barChart>
      <c:catAx>
        <c:axId val="574742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10985"/>
        <c:crosses val="autoZero"/>
        <c:auto val="1"/>
        <c:lblAlgn val="ctr"/>
        <c:lblOffset val="100"/>
        <c:noMultiLvlLbl val="0"/>
      </c:catAx>
      <c:valAx>
        <c:axId val="423109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742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E1BE-7102-4523-9A23-BB88915F4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4D29-4595-4E93-AD29-BFF53116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D119-5B92-481E-BF68-7B35B80FA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AEF6-86B1-4D13-A197-A4F7FD6C8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BFA5-D79D-42D8-819F-2059A36E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433B-076B-4B5D-B248-7F0EC9C9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5DB4-CD7E-4352-AB41-76EF6A94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AA38-4E8B-48BD-8B61-25EC34DE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582B-F724-4E28-B357-CB607B6C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3B89-718F-4694-9D7A-A5A12F58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ACF4-7C35-4411-B17E-A692A63D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1633-0AF6-4439-B700-059F4A8A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766D9-661F-4269-9CEF-822943EEE3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