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5314"/>
        <c:axId val="52000043"/>
      </c:barChart>
      <c:catAx>
        <c:axId val="6055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0043"/>
        <c:crosses val="autoZero"/>
        <c:auto val="1"/>
        <c:lblAlgn val="ctr"/>
        <c:lblOffset val="100"/>
        <c:noMultiLvlLbl val="0"/>
      </c:catAx>
      <c:valAx>
        <c:axId val="52000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5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93B-AE85-4B6C-A236-DC6BBC59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E9D-7A55-4875-A110-F86D4BF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6D5-A264-48CD-8261-6E32FF90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B4-10A0-479B-AEC6-694B40A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1DE-DEE8-4D70-B89F-39CA4A0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DDC-6830-40B0-9FE6-F7C9ACA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1B7-A1EA-41F3-929A-9ACCB2D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FFF-0083-4650-A124-9D945A3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DD7-B27A-4D3A-BC98-71503D7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6FE-1F0C-4258-AA5C-52618AA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366-BE9B-446A-B456-CCC5EDE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1C3-AB9F-4485-A025-D000229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124E8-9D83-4462-A633-C03ADB91F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