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0502"/>
        <c:axId val="86463269"/>
      </c:barChart>
      <c:catAx>
        <c:axId val="5820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3269"/>
        <c:crosses val="autoZero"/>
        <c:auto val="1"/>
        <c:lblAlgn val="ctr"/>
        <c:lblOffset val="100"/>
        <c:noMultiLvlLbl val="0"/>
      </c:catAx>
      <c:valAx>
        <c:axId val="86463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0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36C-532F-4C92-93B6-30CFE142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67D-0551-4F2E-A72E-73BB447F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EC6-641D-46F8-AA5A-ED578F67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72E-D7E6-4AD2-9771-95874752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78D-8DEE-4666-9045-76F3E573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721-66C2-4FA2-9FA2-015AD5CB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49E-BA9F-4CE1-8A8B-5E2B590B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475-5620-47BA-BF03-B202C3FB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E79-361C-415D-AD5D-42312123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C16-8D9A-4A2C-9DD8-F26AA32B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0C6-9EE2-4631-9036-CC428FD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57B-2AA9-435D-8822-770C180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6B8CB-C037-417C-9BB4-755C3B6EB0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