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59575"/>
        <c:axId val="13997041"/>
      </c:barChart>
      <c:catAx>
        <c:axId val="75059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97041"/>
        <c:crosses val="autoZero"/>
        <c:auto val="1"/>
        <c:lblAlgn val="ctr"/>
        <c:lblOffset val="100"/>
        <c:noMultiLvlLbl val="0"/>
      </c:catAx>
      <c:valAx>
        <c:axId val="13997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59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6AD-7EDF-4AF1-A73E-72C54043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1D8-D08E-4CC6-81BD-BA674874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64D-7532-42E5-A497-D48005A2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883-9C07-47C0-A5CA-94E6642E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116-B02F-4563-A727-23254625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7BD-5515-4D7F-9994-586303C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941-B741-4D18-9C30-5CECB66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F2B-130D-43BB-B2F5-ABD376F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ADE-2442-4572-91D2-6ACA21A8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26F-34CA-4910-9511-CC28FE1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F13-EA9D-42DE-A70B-7F2DD3FB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83A-F01F-4A9C-9117-AE2166A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55A9-0BD3-40C7-9FFF-E4D2EC76A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